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E2A9-F176-4B4E-AC2F-CE9DF112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629B-C37F-49E9-B962-DDDFD345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7FA-97E0-477B-B34B-86107C9B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EEF6-16AA-4287-A457-5E7676C7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BB5D-3CDA-44F6-993D-ED34AB0F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8AE2-4F07-4AA9-A03D-A727EF79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89CD-46BD-4020-9F55-F1DE80EE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9AF2-7728-45B4-88A0-12F5CD53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71B6-E7DB-4168-A88A-016162EC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B489-6638-4308-AD15-F71D71CE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F2B5-53F3-448E-9693-A1E3118E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C6F-381F-4530-90C6-2A146E10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5685-38B7-49B8-BABD-5B306356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28B2-9230-4D37-B28E-086E8712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BB99-3CB8-4785-AD2B-37554F9E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8B66-30FD-4A36-8E3D-BDE4FD64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D257-F016-4DAF-877D-FCEA51FF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F8000-EACF-4D35-BAE8-791F0DF7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C53DC-842D-481D-82BD-5A1BF595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8378A-5920-45C6-ACD0-B99B4AA7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F1A34-AB73-4E9D-BFFF-24808308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52588-4C76-441E-A8E5-AB1C5B10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3DE5-032C-4697-932E-38CAA9AC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4FF0C-457E-4FFD-8D1B-7EDABF76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93E557-75AA-47E3-B67B-F53BA24F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DA9C1-B14E-4269-B324-EB8B5699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F13A5-4EFB-48CB-AF60-90655BAE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E0EBCC-4533-463E-8E16-D68C7960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EE1B65-BD35-48B4-BEA9-79A7970D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5B1F80-C885-43A9-9263-A54EDD75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9D68C-BB98-4C76-8ABA-DAED38A6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A0233-4BD5-4B71-9C0D-B610D7CC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723FF-2949-43E3-8BC3-C5CE0CE5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D57-D8A6-4A8D-9BB1-F6F144CB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21E0C-7532-4C70-8532-D1AFBD6E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2A642-AAA3-4213-850B-29CA2FE2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8A219-D091-49DE-BA30-ED5FBE45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D8BEB-B8CC-4C8B-A403-72F97CD6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DAD4A-13D3-4BB1-9255-EA688AEF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59F7A-DB64-4E54-908C-AFD78EE8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2B61E-14A4-49CD-BF4C-F8CF23F1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173EA-837B-473C-889F-2B70F041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FECD3-1EE5-4BA5-B5C5-82C01F07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F35B-B455-464E-9FF4-60A8C38C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251-7F47-4866-90C3-32E032B0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E2E5-5078-4C77-A460-2F1F68C3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3528-A680-4649-8505-2E1BD36B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D7AB-09B8-4692-8F13-1F02EF2A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B9DC-6562-4FD6-B73D-1801B97F2D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4290-AF59-49EF-BDDF-2030A4591B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F46E-F511-4C47-9137-D999EDD699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C4E3-D56E-4849-B12D-36B69EF04C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lecting a Reader and a Text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Selecting a Reader – Lucky for YOU!  As part of this program – you already will be assigned a reader!!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880" y="2533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p and running – NEXT WEEK!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 WILL NEED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ape Recorde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urke Reading Interview (copy to write on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arent Letter with contact info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 few of your own questions to ask reade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Selecting a Reader – Lucky for YOU!  As part of this program – you already will be assigned a reader!!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25336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p and running – NEXT WEEK!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ading needs – talk a bit with student...before administering BR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re information needed – ask question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n-proficient reader**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llect Dat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urke Reading Inventory (p. 273/275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ading Survey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ading Conferenc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electing a tex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1337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plete text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nfamiliar to reader but familiar concep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lightly challeng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esting to stud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gen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iction must have a story lin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onfiction must develop at least one concept or fully describe an act or ev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nimum of 500 words (two books for younger reader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ext Features to Conside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plexity of concep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terest to the read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predictable beginning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eaks in the traditional sequence of ev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formation that is irrelevant to the entire tex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usual punctuation or pri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familiar language features (including dialect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ew and unfamiliar inform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eparing the Typescrip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hould look just like original tex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Line length, spelling, punctua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a large font (at least 14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iple space between lines and between wor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solid horizontal line to signify the end of each pa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umber the lines for each pa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Prepare Retelling Guide </a:t>
            </a: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(p. 51/260/271)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o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List of character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Main event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Setting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ssign points to each ite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lude additional space for a plot summary and them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on-fi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List of main concept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Detail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Main idea of passage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ssign points to each ite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Your Tas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ine several texts for features that support and imped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 examples of texts that may create barriers for studen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e there texts that you use, for example, that you find many students miscue in the same places?  Could this be an issue with the tex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02:28:55Z</dcterms:created>
  <dc:creator>College of Education</dc:creator>
  <dc:description/>
  <dc:language>en-US</dc:language>
  <cp:lastModifiedBy>Zoe Cassady</cp:lastModifiedBy>
  <dcterms:modified xsi:type="dcterms:W3CDTF">2010-01-28T19:56:24Z</dcterms:modified>
  <cp:revision>13</cp:revision>
  <dc:subject/>
  <dc:title>Selecting a Reader and a Text</dc:title>
</cp:coreProperties>
</file>